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3.jpeg" ContentType="image/jpeg"/>
  <Override PartName="/ppt/media/image2.png" ContentType="image/png"/>
  <Override PartName="/ppt/media/jeop.wav" ContentType="audio/x-wav"/>
  <Override PartName="/ppt/media/image4.jpeg" ContentType="image/jpeg"/>
  <Override PartName="/ppt/media/clap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0270-CFFD-49E1-9759-723E7190F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FE61-7E48-4FED-B8B4-7BFB5B2698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E72C-D270-47E6-A25A-F5F0713AA9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CEE-0BB8-4B6D-B4F1-4B660E3C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05E-414C-459A-8BA1-FBDEA57E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3CB-C2F7-4FEB-AE11-085406D8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DCC-CA1D-40DA-A2DE-CDA3055E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0F79-6B91-412A-95F8-46D9BEB5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B4D5-4B14-4796-A1CC-E15B896B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3086-4B5E-43DB-8DFD-BB6C31ED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17F9-1FE9-475B-8848-1DB70CC9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AA10-0938-4386-BADB-05469D9C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2433-4AC5-4429-A84B-E9BE7665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0B58-62F9-4BCA-97E5-28457101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FF4-F91D-41DE-AF89-DA7C78A4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D4E8-7194-4ABF-A86E-963139C3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4A37-7801-4FD9-B15E-B737A059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B8C7-3F7C-47F5-A9D1-5022900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BC33-8F52-4A03-AF36-2ABEEDEA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C119-D0E5-4F38-840B-C15CCBF5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E9E-A6F9-4D70-B965-B0F62FC9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E63-797C-45EA-A4BC-FA96A6F5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A71-38E4-4931-BAA7-D38383E5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C90-DF60-4405-9241-9185477A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D49-9FE9-4112-AEC2-859289D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C04-E732-446A-9E27-8AFACBF2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16F-1774-4B82-90AC-9EBFC0E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a5002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9f1b34"/>
              </a:gs>
              <a:gs pos="50000">
                <a:srgbClr val="dddddd"/>
              </a:gs>
              <a:gs pos="100000">
                <a:srgbClr val="9f1b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8278-5926-4A02-8E54-4007C6BB3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a5002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9f1b34"/>
              </a:gs>
              <a:gs pos="50000">
                <a:srgbClr val="dddddd"/>
              </a:gs>
              <a:gs pos="100000">
                <a:srgbClr val="9f1b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f1b34"/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9859-361E-442F-9405-B5CA3449A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audio" Target="../media/jeop.wav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2952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600200"/>
          <a:ext cx="7834320" cy="46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83432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5257800" y="1219320"/>
            <a:ext cx="1447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62320" y="16002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os est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i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9880" y="1676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a ciu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380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3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898560" y="3241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898560" y="40035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5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98560" y="47656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898560" y="5527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251460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8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556272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9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40384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0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70102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251460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4038480" y="3276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5627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7155000" y="327672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5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5146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3962520" y="3962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7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5538960" y="396252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155000" y="403848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251460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4038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556272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7155000" y="480060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25146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4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4038480" y="5562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556272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7155000" y="556272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Jeopardy.wav" descr=""/>
          <p:cNvPicPr/>
          <p:nvPr/>
        </p:nvPicPr>
        <p:blipFill>
          <a:blip r:embed="rId29"/>
          <a:stretch/>
        </p:blipFill>
        <p:spPr>
          <a:xfrm>
            <a:off x="-152388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Jeopardy.wav" descr=""/>
          <p:cNvPicPr/>
          <p:nvPr/>
        </p:nvPicPr>
        <p:blipFill>
          <a:blip r:embed="rId30"/>
          <a:stretch/>
        </p:blipFill>
        <p:spPr>
          <a:xfrm>
            <a:off x="-121932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3"/>
          <p:cNvSpPr/>
          <p:nvPr/>
        </p:nvSpPr>
        <p:spPr>
          <a:xfrm>
            <a:off x="914400" y="1676520"/>
            <a:ext cx="14479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rel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02160" y="16398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onjug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os ver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0102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La pelícu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501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04920" y="1981080"/>
            <a:ext cx="8458200" cy="210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 ______ _______ de mi mejor amigo porque él tiene un carro nuev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757600" y="2514600"/>
            <a:ext cx="32004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go ce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18920" y="2133720"/>
            <a:ext cx="771696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ñora Gonzalez es ______ por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 esposo se murió en una guerr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057400" y="2590920"/>
            <a:ext cx="510552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u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33520" y="2209680"/>
            <a:ext cx="81532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s padres ________ en una iglesia muy grande cuando tenían 24 añ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359160" y="2438280"/>
            <a:ext cx="26542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 casar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33520" y="2214720"/>
            <a:ext cx="815328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 padres no viven juntos porque  __________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8400" y="2438280"/>
            <a:ext cx="35870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 divorciar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2367000"/>
            <a:ext cx="830592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ta y Pablo no están divorciados, pero están ________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24080" y="2362320"/>
            <a:ext cx="25909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para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95280" y="2971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59160" y="2068560"/>
            <a:ext cx="774144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y mucho _____ en la escue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Ana y su novi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8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2362320"/>
            <a:ext cx="9144000" cy="210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gunas personas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iensa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que 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jor estar ______, porque no tie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 preocuparte por otra person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584160" y="2514600"/>
            <a:ext cx="17978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te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212840" y="2260440"/>
            <a:ext cx="632448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sé dónde estoy. Estoy ________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505320" y="2549520"/>
            <a:ext cx="205740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d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di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8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431720" y="2438280"/>
            <a:ext cx="589284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vir (en un apartamento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508920" y="2666880"/>
            <a:ext cx="17658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id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066680" y="2286000"/>
            <a:ext cx="739152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o conecta dos lugares, a veces por encima del agu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440520" y="2666880"/>
            <a:ext cx="234036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pue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03360" y="2297160"/>
            <a:ext cx="777852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eñal con luz rojo, amarillo, y ver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200400" y="2666880"/>
            <a:ext cx="29718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emáfo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76720" y="3048120"/>
            <a:ext cx="533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2236680"/>
            <a:ext cx="38098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is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7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53" name="4DFAB4C9.WAV" descr=""/>
          <p:cNvPicPr/>
          <p:nvPr/>
        </p:nvPicPr>
        <p:blipFill>
          <a:blip r:embed="rId3"/>
          <a:stretch/>
        </p:blipFill>
        <p:spPr>
          <a:xfrm>
            <a:off x="-20574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4" name="4DFAB4C9.WAV" descr=""/>
          <p:cNvPicPr/>
          <p:nvPr/>
        </p:nvPicPr>
        <p:blipFill>
          <a:blip r:embed="rId4"/>
          <a:stretch/>
        </p:blipFill>
        <p:spPr>
          <a:xfrm>
            <a:off x="-190512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282840" y="2133720"/>
            <a:ext cx="228600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min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754000" y="2666880"/>
            <a:ext cx="366444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r un pase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una vuel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14400" y="2286000"/>
            <a:ext cx="769608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terite – Juan/ ten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276720" y="2514600"/>
            <a:ext cx="25146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u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676520" y="2286000"/>
            <a:ext cx="58672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erfect- yo/ 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191120" y="2590920"/>
            <a:ext cx="106668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b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62120" y="2514600"/>
            <a:ext cx="7696080" cy="76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terite- nosotros/ po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363840" y="2743200"/>
            <a:ext cx="22334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udim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fect- las casas/ s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4030200" y="2514600"/>
            <a:ext cx="1269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94880" y="2286000"/>
            <a:ext cx="761760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yer Julio _______ con Marta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É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ce que ella era muy antipatic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7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164680" y="2514600"/>
            <a:ext cx="483516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- yo/ obedec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439440" y="2362320"/>
            <a:ext cx="235692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edez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48720" y="2514600"/>
            <a:ext cx="811476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amilia de Macario es ____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09480" y="3124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3048120" y="2438280"/>
            <a:ext cx="327636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b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15" name="9316E628.WAV" descr=""/>
          <p:cNvPicPr/>
          <p:nvPr/>
        </p:nvPicPr>
        <p:blipFill>
          <a:blip r:embed="rId3"/>
          <a:stretch/>
        </p:blipFill>
        <p:spPr>
          <a:xfrm>
            <a:off x="-175248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6" name="9316E628.WAV" descr=""/>
          <p:cNvPicPr/>
          <p:nvPr/>
        </p:nvPicPr>
        <p:blipFill>
          <a:blip r:embed="rId4"/>
          <a:stretch/>
        </p:blipFill>
        <p:spPr>
          <a:xfrm>
            <a:off x="-243828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3048120" y="3124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685800" y="2171880"/>
            <a:ext cx="7467480" cy="1922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iño malo e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 y su ánge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llama _____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6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946320" y="2819520"/>
            <a:ext cx="126900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57200" y="2590920"/>
            <a:ext cx="838188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s tres hombres en el bosque son _________, ________, y ____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Picture 6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3200400" y="2743200"/>
            <a:ext cx="3124080" cy="21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Diablo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s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ue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80880" y="2057400"/>
            <a:ext cx="838224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uánto cobra Macario por sus servicio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080800" y="2805120"/>
            <a:ext cx="52664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 que pueden pag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510360" y="2590920"/>
            <a:ext cx="176112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pi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1981080"/>
            <a:ext cx="8381880" cy="1434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 final d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Julio y su ánge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Julio tiene _____ años y es _______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276720" y="2590920"/>
            <a:ext cx="1981080" cy="1312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d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6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533520" y="2286000"/>
            <a:ext cx="7848360" cy="2775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a características de una persona que perdió su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. (Usa sólo las palabras de la hoja de vocabulario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80880" y="2209680"/>
            <a:ext cx="4191120" cy="3445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oj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rim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egu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ocup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Picture 5" descr="pkpic"/>
          <p:cNvPicPr/>
          <p:nvPr/>
        </p:nvPicPr>
        <p:blipFill>
          <a:blip r:embed="rId1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358" name="Jeopardy.wav" descr=""/>
          <p:cNvPicPr/>
          <p:nvPr/>
        </p:nvPicPr>
        <p:blipFill>
          <a:blip r:embed="rId2"/>
          <a:stretch/>
        </p:blipFill>
        <p:spPr>
          <a:xfrm>
            <a:off x="-1371600" y="2590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3"/>
          <p:cNvSpPr/>
          <p:nvPr/>
        </p:nvSpPr>
        <p:spPr>
          <a:xfrm>
            <a:off x="4724280" y="2895480"/>
            <a:ext cx="4191120" cy="21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obi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gust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mpestuo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opardy template designed by Patricia Kelly, Fitchburg High School, Fitchburg,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 questions designed by Jessica Kaplan, Norwood High School, Norwood,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651120" y="2487600"/>
            <a:ext cx="1524240" cy="70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g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135240" y="2666880"/>
            <a:ext cx="2543040" cy="764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quete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2090880"/>
            <a:ext cx="8137440" cy="1312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Mario no le gusta _______ su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uetes con sus herman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217680" y="2438280"/>
            <a:ext cx="2381400" cy="703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rti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pkpi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134040"/>
            <a:ext cx="685800" cy="50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1480" y="6000840"/>
            <a:ext cx="957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essica Kaplan</cp:lastModifiedBy>
  <dcterms:modified xsi:type="dcterms:W3CDTF">2013-01-18T14:53:38Z</dcterms:modified>
  <cp:revision>145</cp:revision>
  <dc:subject/>
  <dc:title>Jeopardy</dc:title>
</cp:coreProperties>
</file>